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179-186E-4E57-A69D-9A3E925A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AEB4-620F-4620-8F56-76D72136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8A3-92EA-461F-8A80-7A619745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882-F0C4-4F13-BD4F-7AC32E33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90C-8181-4439-A9C8-31C62683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F9F-D737-4215-83C4-02A0FD7C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668-E3EE-4656-8833-092D3A19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A40-EBEE-4291-87BA-176427E1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724-5C91-4D96-B093-E532BF45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0D84-DA17-4D0D-B889-E35EA205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929-DEE4-4195-A0D2-120AD7B6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A03-9100-433C-90CA-334AB7F6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E7E5-5CE6-4431-9130-20229B07B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illmon.org/archives/comintern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artacus.schoolnet.co.uk/Jlow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WAR PERIO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IGN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Showcard Gothic"/>
              </a:rPr>
              <a:t>Interwar Period: Soviet Foreign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394308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eaty of Rapallo (192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ewed in 1931 (Germany &amp; USS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lomatic relations &amp; economic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 recognizes U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udiate war damages &amp;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 economic assistance in exchange for German military maneuvers on USSR s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10280" y="2438280"/>
            <a:ext cx="190512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of Comin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t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d by Lenin 19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was to further the Soviet goal of world r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2286000"/>
            <a:ext cx="32004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lvement with the League of N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3505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ed 19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ns of looking to the west for Al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r of fasc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49150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ual Assistance P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935 to make sure to prevent German &amp; French col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zechoslovak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cure Soviet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 assist Czech. only if France took action in fulfillment of its obligation to Czech. (Little Ent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zi-Soviet Pact (193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Stalin a false sense of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dged each would remain neutral in event of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 partition of Po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SR could reclaim Baltic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Germany invaded USSR “Barbarossa” USSR joined the  “Grand Alliance” with Britain &amp; F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3520" y="35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INTERWAR: USA FOREIGN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14600" y="2209680"/>
            <a:ext cx="4424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LAT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sign treaty of Ver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member of the L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ality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agai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we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logg-Briand 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d Lease Act “cash &amp; car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USA Economy: Interwar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dustri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trade to support industri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regulated econom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oom &amp; bust cyc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lending massive amounts of $ to European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rash of 1929 loans could not be rep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 adopts high tariffs (protection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overproduction of agricultural goods causes $ to dr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ssion leads to Depression (high unemploy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De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ey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Emergency Banking 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he American govt. to regulate banking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Civilian Conservation Cor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Tennessee Valley 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dams (power, flood control, irri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National Recovery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ed prices &amp;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Social Security Act of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unemployment insurance &amp; old age pen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war Period: Nazi Foreign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3591000" cy="3962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3880" y="3809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ZZ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61080" y="2133720"/>
            <a:ext cx="3571560" cy="3962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4120" y="38862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WING BUB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4969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WAR TREA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80880" y="88848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wes Plan (1924)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WWI; this was the five year plan under which th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es attempted to collect war reparations from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lan also made loans available to Germany and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ed to soften the burden brought by the Treaty of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ng Plan (1929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d the Dawes plan in 1929 after it became obvious that Germany could not live up to the expectations outlined in the Dawes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19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WAR TREA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558720"/>
            <a:ext cx="8839440" cy="62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ellogg-Briand Pact (1928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so known as the Pact of Par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international treaty “providing for the renunciation of war as an instrument of national policy.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iginally formed by the USA and France, stating that war should never be used as a foreign policy of any n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as a failure, but was later important in the development of international law and poli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rno Treaties (192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 agreements in which the WWI Allied powers and new states of central and Eastern Europe secured post-war territorial settle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so a move toward normalizing relations with defeated Germany (Weimar Republi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tler’s Relations with Other Fascist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me –Berlin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36: non-aggression 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ti-Comintern 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e against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36 Germany &amp;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37 Italy jo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2505240" cy="2273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53080" y="426708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2108160" cy="2190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67080" y="533520"/>
            <a:ext cx="46483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Germany’s Involvement with the Spanish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962160"/>
            <a:ext cx="45720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936 General Franco attempts to overthrow government in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Germany supplied bombers (to test effect of bombing civili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uer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38680" y="2895480"/>
            <a:ext cx="289260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3200400" cy="195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Remilitarization of the Rhine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arch 19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erman forces re-enter Rhin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rbidden by the Treaty of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609588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50000">
              <a:srgbClr val="ffffff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ustrian Anschl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attempt: 19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s un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: 19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 threat of invasion Austria  is annexed into the Re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4120" y="1447920"/>
            <a:ext cx="30765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Destruction of Czech: Appeas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determination and the Sudetenland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illion German speak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he right to self-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nich Agreement (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berlain (Brit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dier (F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solini (Ita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ler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, 1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ler takes all of Cz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5812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343400" y="411444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35812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eed to give Hitler the Sudet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562720" y="4343400"/>
            <a:ext cx="267624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zi-Soviet Pac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ugust, 193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ed for division of Poland between the two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or states to be carved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20001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JlowSp" descr="David Low, March 19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0"/>
            <a:ext cx="7848720" cy="4881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5118120"/>
            <a:ext cx="838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_WAR CARTOON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ference to the cartoon, what historical events has happened as a result of Hitl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the material dealt with in class, what future events do the 'Spineless Leaders of Democracy' repres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22:45:06Z</dcterms:created>
  <dc:creator>ITS</dc:creator>
  <dc:description/>
  <dc:language>en-US</dc:language>
  <cp:lastModifiedBy>ripkensa</cp:lastModifiedBy>
  <dcterms:modified xsi:type="dcterms:W3CDTF">2009-03-06T00:10:14Z</dcterms:modified>
  <cp:revision>64</cp:revision>
  <dc:subject/>
  <dc:title>INTERNATIONAL CONFRONTATION &amp; CO-OPERATION</dc:title>
</cp:coreProperties>
</file>